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A800-D797-4AA9-A600-BE6A4462E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21F-96CE-4811-853A-D09102CC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C55-C947-41B6-92F2-69F5298A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E15-07B1-433C-9EAD-CC644E03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13A-F5B4-4C2C-8A7A-62760905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D52C-E572-419C-AC7C-7E3268FA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529C-3DD3-4063-AB97-539291DA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C7DC-2F63-48DA-B321-621858B5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CD2D-906D-4448-866B-EAEE8E81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A0BD-FCC8-4CFC-8D6F-BF48B288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CFC7-4AAC-4B03-AF7C-1E42A56A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B533-A366-473F-88E7-781537E7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251-1B6B-4D61-BB71-CC8FC776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891A-A8D0-47E5-9512-F3E55225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BEBC-E726-4991-BEBA-CB407DCF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6EAC-E800-47E6-BB94-75711DA6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7BA5-1ED4-40E2-AE68-6C187D1B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8457-6E35-484E-92AA-D3B51377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DB9-C202-4DF1-94FC-C41D0FA8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0CC-AF06-463A-8C2E-771E9920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CB1-1659-4360-B0B5-561E578C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9A3-2526-479B-B765-38E6F8E7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0DE-7F13-435F-8F2E-D5B0DEFB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376-E9E2-4500-A87F-D70C315E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BA0-1D26-4731-A847-A42908A1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3443-F146-42AE-84DC-819655AA9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7FFF-769F-45AB-9EE7-9B52FAB375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ss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ion and the Shepherd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scussion Questions for “The Lion and the Shepherd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Defined:</a:t>
            </a:r>
            <a:br>
              <a:rPr sz="4400"/>
            </a:br>
            <a:br>
              <a:rPr sz="40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means being kind and thoughtful towards other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ssionate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genuinely concerned for the welfa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j0281904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mpathetic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eeling an emotional response to the pain and pleasu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sideration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kind, loving, and sensitive to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4:01Z</dcterms:modified>
  <cp:revision>7</cp:revision>
  <dc:subject/>
  <dc:title>Character Education compassion</dc:title>
</cp:coreProperties>
</file>